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C65A-7CDF-4DC0-B02F-9A423BDB3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7749B-6D27-461D-9AB4-6BC308A27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A625-C846-47A3-A8C0-3806CC50C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42C53-CBB6-48B7-8F78-0961BA93C4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9552-4BC1-41D4-B3DB-18D1F58B4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3A348-44C3-4433-B58C-AB0A5123E1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77F4-1941-4451-86D9-D4A269139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9FA1-72F5-4E58-81FC-1B52F66E0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7760" y="545760"/>
            <a:ext cx="11049120" cy="105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178A-C09C-4704-A632-D160B8203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7ECF-874C-4717-8717-F7335B980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7FC2-6C2E-4696-ADC4-DFF47518A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DA70-D42F-489B-8952-F054807D0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7760" y="5457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490040" y="8889840"/>
            <a:ext cx="3686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3CA-5314-41E9-8F9A-0F8CC442D30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lide Number Placeholder 3"/>
          <p:cNvSpPr/>
          <p:nvPr/>
        </p:nvSpPr>
        <p:spPr>
          <a:xfrm>
            <a:off x="10490040" y="8889840"/>
            <a:ext cx="3686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39B6-51F9-4F83-A779-DA89487A7AF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279360" y="1292400"/>
          <a:ext cx="12445920" cy="8138880"/>
        </p:xfrm>
        <a:graphic>
          <a:graphicData uri="http://schemas.openxmlformats.org/drawingml/2006/table">
            <a:tbl>
              <a:tblPr/>
              <a:tblGrid>
                <a:gridCol w="2913120"/>
                <a:gridCol w="3386160"/>
                <a:gridCol w="3182760"/>
                <a:gridCol w="2963880"/>
              </a:tblGrid>
              <a:tr h="6807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E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72fd"/>
                    </a:solidFill>
                  </a:tcPr>
                </a:tc>
              </a:tr>
              <a:tr h="12114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N Sportscas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w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minute segm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 Arthur Ashe more influential on or off the cour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okeep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o visito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Cen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s the plight of the polar bears in an era of global warm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a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l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Franklin’s New Deal communism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Report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i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high gas prices good for the environ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um Cura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o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are Picasso’s most important predecessors (influence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tor of </a:t>
                      </a:r>
                      <a:r>
                        <a:rPr b="0" i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gazin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Coldplay the new U2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0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ia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’t. agenc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tabLst>
                          <a:tab algn="l" pos="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ecline in Buffalo: Where are they going, and why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Rectangle 110"/>
          <p:cNvSpPr/>
          <p:nvPr/>
        </p:nvSpPr>
        <p:spPr>
          <a:xfrm>
            <a:off x="1701720" y="76320"/>
            <a:ext cx="10642680" cy="11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quiry (Writing a Research Paper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ook”/Pre-Assess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1"/>
          <p:cNvSpPr/>
          <p:nvPr/>
        </p:nvSpPr>
        <p:spPr>
          <a:xfrm>
            <a:off x="6667200" y="9398160"/>
            <a:ext cx="563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hen Shepherd, Sweet Home Central Middle School, Amherst, 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7760" y="101160"/>
            <a:ext cx="110491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36200" y="2298600"/>
            <a:ext cx="11518920" cy="69343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one RAFT strip, based on which role and topic interests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cribe/outline some research steps that you (in your Role) would take in order to answer your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three sources you would consult as you begin to answer your question. These might include specific print-based sources, web-based sources, audio/visual resources, people/experts, statistics, or historical docu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99880" y="800280"/>
          <a:ext cx="12298680" cy="8400960"/>
        </p:xfrm>
        <a:graphic>
          <a:graphicData uri="http://schemas.openxmlformats.org/drawingml/2006/table">
            <a:tbl>
              <a:tblPr/>
              <a:tblGrid>
                <a:gridCol w="3994200"/>
                <a:gridCol w="4133880"/>
                <a:gridCol w="4170600"/>
              </a:tblGrid>
              <a:tr h="4128840">
                <a:tc>
                  <a:txBody>
                    <a:bodyPr lIns="162720" rIns="162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hat do you think the author of this story wants you (the reader) to better understand after reading this story? How do you know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720" marR="162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From whose point of view is this story told? How do you know?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14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oes the author have a positive view or a negative view of the main characters? How do you know?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120"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3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here do you see “clues” in the story about what’s going to happen at the end?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Choose one of the main characters in the story. How is this character MOST like you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Least like you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560" rIns="975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What challenges did the main characters in this story face? Did they overcome those challenges? How do you know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560" marR="9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Oval 2"/>
          <p:cNvSpPr/>
          <p:nvPr/>
        </p:nvSpPr>
        <p:spPr>
          <a:xfrm>
            <a:off x="2135160" y="420372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2"/>
          <p:cNvSpPr/>
          <p:nvPr/>
        </p:nvSpPr>
        <p:spPr>
          <a:xfrm>
            <a:off x="6045120" y="366876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2"/>
          <p:cNvSpPr/>
          <p:nvPr/>
        </p:nvSpPr>
        <p:spPr>
          <a:xfrm>
            <a:off x="6315120" y="3987720"/>
            <a:ext cx="26820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0067760" y="3884760"/>
            <a:ext cx="26856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>
            <a:off x="10336320" y="420372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2"/>
          <p:cNvSpPr/>
          <p:nvPr/>
        </p:nvSpPr>
        <p:spPr>
          <a:xfrm>
            <a:off x="10604520" y="4522680"/>
            <a:ext cx="268200" cy="3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"/>
          <p:cNvSpPr/>
          <p:nvPr/>
        </p:nvSpPr>
        <p:spPr>
          <a:xfrm>
            <a:off x="1866960" y="810432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"/>
          <p:cNvSpPr/>
          <p:nvPr/>
        </p:nvSpPr>
        <p:spPr>
          <a:xfrm>
            <a:off x="2270160" y="810432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"/>
          <p:cNvSpPr/>
          <p:nvPr/>
        </p:nvSpPr>
        <p:spPr>
          <a:xfrm>
            <a:off x="2270160" y="858204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2"/>
          <p:cNvSpPr/>
          <p:nvPr/>
        </p:nvSpPr>
        <p:spPr>
          <a:xfrm>
            <a:off x="1866960" y="856296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5911920" y="794556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"/>
          <p:cNvSpPr/>
          <p:nvPr/>
        </p:nvSpPr>
        <p:spPr>
          <a:xfrm>
            <a:off x="6448320" y="794556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"/>
          <p:cNvSpPr/>
          <p:nvPr/>
        </p:nvSpPr>
        <p:spPr>
          <a:xfrm>
            <a:off x="6180120" y="8264520"/>
            <a:ext cx="26820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"/>
          <p:cNvSpPr/>
          <p:nvPr/>
        </p:nvSpPr>
        <p:spPr>
          <a:xfrm>
            <a:off x="5911920" y="8582040"/>
            <a:ext cx="2682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"/>
          <p:cNvSpPr/>
          <p:nvPr/>
        </p:nvSpPr>
        <p:spPr>
          <a:xfrm>
            <a:off x="6448320" y="858204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"/>
          <p:cNvSpPr/>
          <p:nvPr/>
        </p:nvSpPr>
        <p:spPr>
          <a:xfrm>
            <a:off x="11309400" y="7785000"/>
            <a:ext cx="270000" cy="3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"/>
          <p:cNvSpPr/>
          <p:nvPr/>
        </p:nvSpPr>
        <p:spPr>
          <a:xfrm>
            <a:off x="11657160" y="7785000"/>
            <a:ext cx="269640" cy="31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"/>
          <p:cNvSpPr/>
          <p:nvPr/>
        </p:nvSpPr>
        <p:spPr>
          <a:xfrm>
            <a:off x="11657160" y="8244000"/>
            <a:ext cx="26964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"/>
          <p:cNvSpPr/>
          <p:nvPr/>
        </p:nvSpPr>
        <p:spPr>
          <a:xfrm>
            <a:off x="11309400" y="8244000"/>
            <a:ext cx="270000" cy="318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"/>
          <p:cNvSpPr/>
          <p:nvPr/>
        </p:nvSpPr>
        <p:spPr>
          <a:xfrm>
            <a:off x="11309400" y="8723160"/>
            <a:ext cx="27000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11657160" y="8723160"/>
            <a:ext cx="269640" cy="317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1168560" y="0"/>
            <a:ext cx="10515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Story Discussion (Generic)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4"/>
          <p:cNvSpPr/>
          <p:nvPr/>
        </p:nvSpPr>
        <p:spPr>
          <a:xfrm>
            <a:off x="9271080" y="9315360"/>
            <a:ext cx="7467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sica Hockett (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hrissi Ritzius</cp:lastModifiedBy>
  <dcterms:modified xsi:type="dcterms:W3CDTF">2010-06-24T21:06:14Z</dcterms:modified>
  <cp:revision>2</cp:revision>
  <dc:subject/>
  <dc:title>Slide 1</dc:title>
</cp:coreProperties>
</file>